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EC59-302E-4487-A32A-17BADFAF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6725-ED47-444B-B4E4-A610C2A1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5AEE-BEE5-48DB-ADFC-4D6FF084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F54B-EC45-4507-B4D0-7C126283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3AC-46E7-4F23-80D6-27EDBD97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89A0-DC16-4DC7-B977-4845C7EA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6D4-6D5A-49D2-B212-97682EDE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B834-C7DD-44C6-841C-31F668A4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31B8-3F9F-4714-812D-19C0099F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B273-9D27-450D-A51C-D3B18F9A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275E-3FD9-46E3-A0A5-73EEE91E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599D-4BBC-45D7-B866-7693B1D2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8E62-1CE1-49C5-9275-C91FA7214E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nvestor100.ru/wp-content/uploads/2014/11/ec0ef7156708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3"/>
          <p:cNvSpPr/>
          <p:nvPr/>
        </p:nvSpPr>
        <p:spPr>
          <a:xfrm>
            <a:off x="2195640" y="3405240"/>
            <a:ext cx="723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Ролевая игра как приём формирования функциональной грамотности у младших шк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4"/>
          <p:cNvSpPr/>
          <p:nvPr/>
        </p:nvSpPr>
        <p:spPr>
          <a:xfrm>
            <a:off x="4229280" y="2349360"/>
            <a:ext cx="3170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1258920" y="260280"/>
            <a:ext cx="684216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ённое обще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егарская средняя общеобразовательная школа №2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4929120" y="6080040"/>
            <a:ext cx="4032360" cy="77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а Раиса Григорье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Boney_M_-_Money_Money_(iPleer.fm) (1)-[AudioTrimmer.com].mp3" descr=""/>
          <p:cNvPicPr/>
          <p:nvPr/>
        </p:nvPicPr>
        <p:blipFill>
          <a:blip r:embed="rId2"/>
          <a:stretch/>
        </p:blipFill>
        <p:spPr>
          <a:xfrm>
            <a:off x="250920" y="6210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662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4748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ая игр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79840" y="1181160"/>
            <a:ext cx="558000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b6b51"/>
                </a:solidFill>
                <a:latin typeface="Times New Roman"/>
                <a:ea typeface="Times New Roman"/>
              </a:rPr>
              <a:t>Участники иг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Белки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Волков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Зайцев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457200" y="3645000"/>
            <a:ext cx="8075520" cy="29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: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читать сумму доходов и расх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суммы доходов вычесть 10% на формирование финансовой подушки без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ить на вопрос: «Рационально ли члены семьи тратят деньги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Картинки по запросу семья считает деньги картинки"/>
          <p:cNvPicPr/>
          <p:nvPr/>
        </p:nvPicPr>
        <p:blipFill>
          <a:blip r:embed="rId1"/>
          <a:stretch/>
        </p:blipFill>
        <p:spPr>
          <a:xfrm>
            <a:off x="457200" y="1257480"/>
            <a:ext cx="341640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лучше хранить деньг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s://planetanezhnosti.ru/wp-content/uploads/2017/06/vsyo-o-dengah.jpg"/>
          <p:cNvPicPr/>
          <p:nvPr/>
        </p:nvPicPr>
        <p:blipFill>
          <a:blip r:embed="rId1"/>
          <a:stretch/>
        </p:blipFill>
        <p:spPr>
          <a:xfrm>
            <a:off x="2627280" y="1165320"/>
            <a:ext cx="357516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мья Белкиных ежемесячно откладывает сумму в размере 5.500 руб. Каков размер ФПБ будет у них через го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вет: 66 000 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9" descr="http://povelitelnica.com.ua/images/raznoe4/zvqfiBshw.jpg"/>
          <p:cNvPicPr/>
          <p:nvPr/>
        </p:nvPicPr>
        <p:blipFill>
          <a:blip r:embed="rId1"/>
          <a:stretch/>
        </p:blipFill>
        <p:spPr>
          <a:xfrm>
            <a:off x="5076720" y="3213000"/>
            <a:ext cx="38880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5"/>
          <p:cNvSpPr/>
          <p:nvPr/>
        </p:nvSpPr>
        <p:spPr>
          <a:xfrm>
            <a:off x="971640" y="1989000"/>
            <a:ext cx="7416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b6b51"/>
                </a:solidFill>
                <a:latin typeface="Times New Roman"/>
                <a:ea typeface="Calibri"/>
              </a:rPr>
              <a:t>Цель ролевой игры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понятия «финансовая подушка безопасности», как основа грамотного ведения семейного бюджета и одна из возможностей реализации своих заветных жел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послов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ЕТ, ЛЮБЯТ,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ЖЕТ, РУБЛЬ, КОПЕ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Ы, НЕ, ДЕНЬГИ, КЛЮ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744480" y="170028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ейка – рубль береж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Картинки по запросу копейки картинки"/>
          <p:cNvPicPr/>
          <p:nvPr/>
        </p:nvPicPr>
        <p:blipFill>
          <a:blip r:embed="rId1"/>
          <a:stretch/>
        </p:blipFill>
        <p:spPr>
          <a:xfrm>
            <a:off x="2340000" y="3219480"/>
            <a:ext cx="50385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547640" y="1988640"/>
            <a:ext cx="648504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b6b51"/>
                </a:solidFill>
                <a:latin typeface="Times New Roman"/>
                <a:ea typeface="Calibri"/>
              </a:rPr>
              <a:t>Всего вам доброго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cb6b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900igr.net/up/datas/233612/002.jpg"/>
          <p:cNvPicPr/>
          <p:nvPr/>
        </p:nvPicPr>
        <p:blipFill>
          <a:blip r:embed="rId1"/>
          <a:srcRect l="39638" t="45491" r="8390" b="4115"/>
          <a:stretch/>
        </p:blipFill>
        <p:spPr>
          <a:xfrm>
            <a:off x="2735280" y="3389400"/>
            <a:ext cx="367344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1042920" y="981000"/>
            <a:ext cx="7469280" cy="49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Картинки по запросу финансовой грамотности учебник начальные класс"/>
          <p:cNvPicPr/>
          <p:nvPr/>
        </p:nvPicPr>
        <p:blipFill>
          <a:blip r:embed="rId1"/>
          <a:stretch/>
        </p:blipFill>
        <p:spPr>
          <a:xfrm>
            <a:off x="22320" y="1773360"/>
            <a:ext cx="4809960" cy="265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Картинки по запросу финансовой грамотности учебник начальные класс"/>
          <p:cNvPicPr/>
          <p:nvPr/>
        </p:nvPicPr>
        <p:blipFill>
          <a:blip r:embed="rId2"/>
          <a:stretch/>
        </p:blipFill>
        <p:spPr>
          <a:xfrm>
            <a:off x="5076720" y="1366920"/>
            <a:ext cx="37688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Картинки по запросу финансовой грамотности учебник начальные класс"/>
          <p:cNvPicPr/>
          <p:nvPr/>
        </p:nvPicPr>
        <p:blipFill>
          <a:blip r:embed="rId1"/>
          <a:stretch/>
        </p:blipFill>
        <p:spPr>
          <a:xfrm>
            <a:off x="684360" y="1125360"/>
            <a:ext cx="7210440" cy="51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1628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одушка безопас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 ее разме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отклады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хранить деньги и в каких валют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финансовая подушка безопасно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988640"/>
            <a:ext cx="845676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ПБ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ПЛЕНИЯ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РНЫЙ ДЕН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право 12"/>
          <p:cNvSpPr/>
          <p:nvPr/>
        </p:nvSpPr>
        <p:spPr>
          <a:xfrm>
            <a:off x="1979640" y="2276640"/>
            <a:ext cx="936720" cy="28872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cb6b5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углом вверх 13"/>
          <p:cNvSpPr/>
          <p:nvPr/>
        </p:nvSpPr>
        <p:spPr>
          <a:xfrm rot="5400000">
            <a:off x="4006440" y="3155760"/>
            <a:ext cx="792000" cy="617400"/>
          </a:xfrm>
          <a:prstGeom prst="pie">
            <a:avLst/>
          </a:prstGeom>
          <a:solidFill>
            <a:srgbClr val="cb6b5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4" descr="Финансовая подушка безопасност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716280"/>
            <a:ext cx="2879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95280" y="1844640"/>
            <a:ext cx="82296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cb6b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b6b51"/>
                </a:solidFill>
                <a:latin typeface="Times New Roman"/>
                <a:ea typeface="Times New Roman"/>
              </a:rPr>
              <a:t>Финансовая подушка безопас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некие накопления денежных средств, которые могут срочно понадобиться человеку в самой неожиданной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148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 размер ФПБ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halvacarta.ru/sites/default/files/statyaimage/dokumentu-na-kartu-halva.png"/>
          <p:cNvPicPr/>
          <p:nvPr/>
        </p:nvPicPr>
        <p:blipFill>
          <a:blip r:embed="rId1"/>
          <a:stretch/>
        </p:blipFill>
        <p:spPr>
          <a:xfrm>
            <a:off x="501480" y="1989000"/>
            <a:ext cx="79869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712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откладывать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Объект 3" descr="Как создать финансовую подушку"/>
          <p:cNvPicPr/>
          <p:nvPr/>
        </p:nvPicPr>
        <p:blipFill>
          <a:blip r:embed="rId1"/>
          <a:stretch/>
        </p:blipFill>
        <p:spPr>
          <a:xfrm>
            <a:off x="250920" y="1557360"/>
            <a:ext cx="4105080" cy="25192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3203640" y="4221000"/>
            <a:ext cx="56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ое правило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месячно откладывайте сумму в пределах 10% от до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23-02-16T16:45:45Z</dcterms:modified>
  <cp:revision>775</cp:revision>
  <dc:subject/>
  <dc:title>Diapositiva 1</dc:title>
</cp:coreProperties>
</file>